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2E3-BFDD-441F-B9A8-B8B6BA91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6690-44A3-47F1-9CB4-D24FA747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F8F-0377-4C1C-BC7A-D8C88EBC6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6E6-5379-425A-851D-338ADBFB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895E-5908-4493-9624-92FB94A4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50BD-4EB0-41B9-A269-9ADA8AC5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3CB9-D251-423C-ACE7-744A055A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5708-64C1-4984-A6CE-F9C8363D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2A0D-A667-4687-B26F-F853D433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A62A-F38C-4B8F-98CA-06185D33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9139-937C-467B-B742-50605384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ADD-076A-4CAF-8073-3CE45AFE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1978-2994-4222-B14C-2932231A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CBD1-13CF-4D50-812C-7DD492D8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87AB-6DB8-49E2-B23F-8E5B3BAF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B299-CD56-4E29-B5F1-070A9EC7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B0C9-0414-4856-AB41-75665600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D15-1F2F-43BD-AC70-082A6938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C2B-A668-452B-A4AB-F26C4771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1CC-18B4-48A6-B38A-5ACB76B2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42E-B437-4293-946A-94FDA41D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006-0ED5-46D9-8FBE-3825B788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059-009F-4BF5-BC39-1C3007B9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083-75D2-4301-8B6A-99807915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60FC-AF82-4FCC-BA3A-226AE7F85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571A-339E-4FE5-9F42-E8A32A162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intStroke"/>
              </a:rPr>
              <a:t>Public Spe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Your speech topic should b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Personal and connected to you.  You are the expert on this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Researchable (articles, interviews, personal opinion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Interesting to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Interesting to 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Simple…you only have 4 minu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Your speech topic shoul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have two sides.  A great way to convince others of your opinion is to compare it to an opposing opinion and dispute it…just don’t over do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Brainstorm a collection of possible topics.  Personal experience, interests, and strong opinions can all be developed into a great topic!  Get as many as possible.  Ask for help if you get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Choose at least two topics you think might work.  Write each topic on a sheet of loosele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On each sheet, make pt. form notes to 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intStrok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What do I know about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intStrok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What do I want to know about this top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intStrok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es this topic fit the criteria in slides 10-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Take a few minutes away from your ideas.  When you come back, which topic seems more interesting and engaging?  Which are you more interested in becoming an expert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If this is a problem…ask a friend or teacher for their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lass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Have fun…spending the time picking a great topic now, will make things easier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PaintStroke"/>
              </a:rPr>
              <a:t>Aaaah…I hate this.  Why do we have to do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At some point, everybody will need to speak to an audience (interviews, meetings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The ability to speak in public is ranked as a </a:t>
            </a:r>
            <a:r>
              <a:rPr b="0" i="1" lang="en-US" sz="3200" spc="-1" strike="noStrike">
                <a:solidFill>
                  <a:srgbClr val="000000"/>
                </a:solidFill>
                <a:latin typeface="PaintStroke"/>
              </a:rPr>
              <a:t>MUST HAVE </a:t>
            </a: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skill by most employers.</a:t>
            </a:r>
            <a:r>
              <a:rPr b="0" i="1" lang="en-US" sz="3200" spc="-1" strike="noStrike">
                <a:solidFill>
                  <a:srgbClr val="000000"/>
                </a:solidFill>
                <a:latin typeface="PaintStrok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intStroke"/>
              </a:rPr>
              <a:t>Aaaah…I hate this.  Why do we have to do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Practice in public speaking will help you express yourself in any situation where you need to be convincing (working groups, getting out of trouble with paren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intStroke"/>
              </a:rPr>
              <a:t>Grade 8 Speeches…so much more mature.  So much more person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Grade 8 speeches need to have a personal opinion.  They are not simply a research paper read to an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Our speeches this year will present a </a:t>
            </a:r>
            <a:r>
              <a:rPr b="1" lang="en-US" sz="3200" spc="-1" strike="noStrike">
                <a:solidFill>
                  <a:srgbClr val="000000"/>
                </a:solidFill>
                <a:latin typeface="PaintStroke"/>
              </a:rPr>
              <a:t>persuasive</a:t>
            </a: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 arg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intStroke"/>
              </a:rPr>
              <a:t>Grade 8 Speeches…so much more mature.  So much more person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Grade 8 speeches need to be a minute longer (3-4).  This will not be a problem…trust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intStroke"/>
              </a:rPr>
              <a:t>In this unit you will lear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How to become the EXPERT on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How to research a topic to convincingly pres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aintStroke"/>
              </a:rPr>
              <a:t>your </a:t>
            </a: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intStroke"/>
              </a:rPr>
              <a:t>In this unit you will lea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How to organize your writing to best present your opinion to a group (not as clear-cut as it seem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How to use body language to convey your opinion (80% of communication is non-verb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intStroke"/>
              </a:rPr>
              <a:t>In this unit you will lea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What to do when you’re nervous, confused, lost, nauseous, stammering, etc.  (It’s never as bad as you thin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intStroke"/>
              </a:rPr>
              <a:t>Choosing your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aintStrok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intStroke"/>
              </a:rPr>
              <a:t>Choosing a great topic is a CRUCIAL step in having a successful grade 8 speech.  Take the time to do it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0:12:47Z</dcterms:created>
  <dc:creator>Administrator</dc:creator>
  <dc:description/>
  <cp:keywords/>
  <dc:language>en-US</dc:language>
  <cp:lastModifiedBy>nbdoe</cp:lastModifiedBy>
  <dcterms:modified xsi:type="dcterms:W3CDTF">2007-03-02T22:58:27Z</dcterms:modified>
  <cp:revision>12</cp:revision>
  <dc:subject/>
  <dc:title>Public Spea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33</vt:lpwstr>
  </property>
</Properties>
</file>